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D3C-9F6A-40EC-B16F-5A4A39D1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909-F25A-4FD4-B329-EDDEA35F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9DB7A-191B-46AB-9401-4A4EB537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30299-87FC-4894-A074-9D8AA89A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1A0D6-92C7-4BBA-8E03-FB94D7D6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EE854-A63B-4F8D-A76A-47BBA19C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6B19C-4D8B-4B59-B3BA-EB20DE8C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5CB1A-70DF-44BE-BEE1-969CE8D4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C228A-D460-4CF1-AF6E-523BC871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1064C-83A9-468A-8C4B-8D4BB206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E7AC6-EC52-427C-BC47-8CD9A007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2C609-614C-457C-A97D-023F769C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7C7-D15D-43D2-A2F9-391E1216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76781-DA4E-4D6D-9A98-96E40534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D35ED-373F-4231-AC1C-7D516B3A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CEC05-9E99-43AB-A229-C5C9723B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BA2E6-4D61-4901-B920-4B0AFF4F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17C79-1B81-4231-BE3A-B60A24BF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7E257-EFD6-4BB5-B00F-693BCC7F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A2A16-C2FE-4C56-9B19-6F9CB331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627BC-9CD2-4A63-A9F4-352791A2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75627-2E93-411E-B5D1-EE2DB125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98F14-DCEB-4B24-BB6B-0C4DF745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7F0-3152-4715-A3A6-E6B2D648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0C39D-6D42-49EB-AD56-0FBCE670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7EE3B-88BC-4868-9F1B-EC5743F8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96425-826E-4921-9FBC-87C6D344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60795-AA87-46C2-B363-AD13DFE9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7B6D0-3D29-4506-99C6-95507213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1BF2D-93B5-429E-BD28-ADE9743C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9DB61-A1C2-423B-B649-C3C0B7A9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E39C2-5815-4884-B51A-0B502549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3E22C-9209-4B30-B74E-E102AD6F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BAB97-AC25-4B0E-B0D8-0ADF9198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BA88-2A39-427B-BE20-E0E676E5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B478B-03CB-4F0D-8E7C-6C8BF7E8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565DE-13C3-4443-B67B-E613A3BB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2B08C-9815-4F45-B839-9D2DBE21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800D9-E96C-4BD6-B36B-C03DEF08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2F32C-0F3D-42BD-A354-C9FFA3DB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849FD-2C83-4DDE-8516-586C1D96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74FF9-5D4F-4EA8-9DA1-C505759B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7C0A5-4ECD-4353-8716-A3B3574B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020E1-2ECB-4C93-A84F-86FC7267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F358A-F65D-481E-8D22-FA9E760B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DE2C-B08C-471F-A28D-8E1820E5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D9282-43D7-480A-888F-97A8D33C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CE5A4-218F-4F40-81AC-582D5B8B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EE817-77B9-44DD-9CCA-47370417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8C867-F964-47B5-B6FD-032067D3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BB627-53D2-47DC-A844-0182910D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0302-7C58-44B0-99B2-69D2CB89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CD3C-E31B-46AD-8C18-3C1562EF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964B-7413-498A-B6B1-0A6E2B23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DC0E-A4AF-4C3C-8330-DA627D68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5BE2-D366-4214-B7AD-4C2D7EE5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4CB-B207-4296-B29E-CEA4C4BF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E5CC-84D2-4A29-B86C-EB2B1AC5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CD01-237A-4333-A323-BBE14C7A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1247-8079-4806-85D7-B16FCA58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363B-161F-487F-9B35-53CA4903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C91F-5664-4AA0-BEA2-F164841E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71DF9-4A70-42F4-949D-383D98E6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6F526-049C-4101-9BCE-09D9D70C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B161F-5AB1-4DA2-842B-F6B3D814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6494-5D4E-41C6-9697-505EB769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EF90E-427E-466F-AC25-9860A275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4A6-9916-4D4C-8624-97E9C6B8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96932-4C1D-4721-AC7B-C7B31A20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BE5F9-1D50-42CF-AF7C-372063DB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4EE2-A9C2-4D8C-A569-85AA7153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1D662-8DB6-4229-B85B-70A67BCF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7D4D0-BB43-4951-A1D4-002A0FF6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03B67-C0C6-470F-90D1-75E912C3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6E72D-EC68-4AD8-ACB2-7AC336D8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87588-012F-4D8E-BEF8-13946359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78EAC-AF73-487D-9D88-85309436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9EBBE-DD0C-486B-A026-99E9F001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2B04-3F56-41AF-9248-6E1CC118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8649-3620-4865-8E18-DC37920B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ABF60-680A-45AA-98F4-8FCB6197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4236E-C260-4D7E-B979-75A332DB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C962-D262-4F73-B0CE-5036CBCB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1F444-B8F5-4999-AFC5-BD4AE8F2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0D59C-BBB6-42F4-AB3B-FEAEDD42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BD883-2C45-407A-81DB-C47C2585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BE95A-9062-4A6F-8829-1740FC9B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41A5D-ED76-4519-83F0-77CC6F7B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A2248-B2A8-4229-9A49-B127F3CA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A670-172E-42C0-98ED-9AD42211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5DB09-2AB3-4740-8405-4DCB87E4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B1CCE-25F7-4F5E-80EA-A70E2A08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D34B7-4F3B-424D-B4C7-6BAB1C1E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009FB-3C02-40B6-BB8A-FB5D57A3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033D0-7120-44E6-BE2D-0A29CB85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C6CBF-99F5-47E9-8BD6-58E0BC44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7B93E-0FAF-4128-8153-825469E7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CDAFF-A8F7-46D2-A996-BE14CDF1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52D21-1743-4D59-BCCA-0DAF1312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2C7D8-AAAB-416B-B666-0F1D029E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284-AB06-47B1-8440-DA7B71F5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40F33-A0F9-454F-A699-CE607329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9D90B-DF51-4B30-8DFC-00F7416C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B3080-9C86-498F-A180-FD00CE85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2AA01-1A58-4CDF-A3C3-1A4BCF09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2A36D-3396-44CA-B350-17CBEF93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7CB41-67DA-4040-8FF2-B19C916C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C46DA-BB24-463F-90D1-5B701FDD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841F8-6EAB-4299-94BD-F2A27DD1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3751C-A7DA-4B3C-910F-ADD5491F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C2EA1-D5FE-4FE2-89C6-D2A6B82F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612-C68B-411F-AFAD-CCE30BF7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ABC6E-05ED-48F8-8E7D-C128440D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990D3-AA9F-46B7-94BD-59468E1B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D361F-5D5E-4A67-B04F-4B752568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BC538-E30D-482C-81F4-2627946B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97014-D68B-465D-8C14-3A37810F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1BCF1-F872-4CBF-8F97-209DB24E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FDC11-D14E-42F3-BBA9-364A2957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8B249-55AA-4901-A609-567561BD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6D849-DD6E-415D-8825-C1B3DE7E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CD2A4-6359-451B-8D0D-E8483CEA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5D2-C8A9-4349-BAD5-6B5F9751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35187-8F5F-47CE-9DCC-3996F487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FD5EA-CFD3-47F1-8F26-EE2E0508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9CD8D-90D1-424D-9FBF-28AA60F7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332FF-7C7D-45B3-AA47-31E750B2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8B88B-AD00-4AE8-90C2-C0DDD6AF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3A2B1-2A5A-4937-B361-654BA79B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BC1FC-A518-491F-B86C-066C976A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FD0FC-1343-460F-A62D-8A96703F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40B12-BE41-4F06-8EB1-03DDE8DE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4274F-1978-4C64-BFC1-084A6AF0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886-FD34-465B-868A-4BC6474F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3F48A-1EB6-4104-9DB9-75077E41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E0E0D-DEB4-4763-A5DB-63404C32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43A24-E91A-4213-80D8-930A85EC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88926-56DF-41D2-8837-C57F2B97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9FE0C-0DA8-474E-97F6-7BB16F13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84B73-B591-458F-8032-F5BB2CD6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E5408-317F-4B9B-B9DD-B63FB861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A24D5-E4CC-4570-9114-F99EED3E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0A6D3-C20C-4201-A40F-CEE4ED1E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74417-4E0F-4F81-9EFC-06511BFE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D597-44B4-4137-85BB-AB1CCCF8E3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8A78-BC4B-4577-A428-F3EAF3BDF1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99AA-2D14-4BBA-B009-13A5EDF7920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94B2-4470-424C-972E-571B0FDDDA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D735-A683-4CD4-B85B-053E84598BF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4B31-1E7F-4F91-A7CF-0A430A1C0F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9C42-A11E-4F7D-A2EE-418872DCFF2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98D2-967C-434E-9A5B-4D2ACFC36B0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C6DB-6C83-4FA0-91A2-01A3203CB99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8CAF-BA94-4488-B8AC-08A646C2E21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A83E-F6B8-48C7-8178-A2658B3E73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DE9A-5085-4CB1-AF72-CD813782A91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38 Sám uchop moju ru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uchop moju ruk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ždy ma ve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zmätku, sveta ruc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ísť neviem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teba, drahý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m by som šiel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tvojom večnom sta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život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teba všetko chladn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vete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 smrti všade vlád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et náde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 z teba život prúd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svetla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z mrákot hriechu bud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edi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tvoja štedrá ruk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dobr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 znova z lásky núk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r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tvojej ruky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svoju d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eba odovzda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spolieha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3-25T15:36:08Z</dcterms:modified>
  <cp:revision>21</cp:revision>
  <dc:subject/>
  <dc:title>Je veľký náš Pán, on slávy je Kráľ Nech do všetkých strán  spev vrúcnych znie chvál.</dc:title>
</cp:coreProperties>
</file>